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876B-6C62-4C34-9834-B879609ED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A54C-8F69-4AE9-A9E6-EFAC648F7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E48E-DF58-4D74-89DC-4B282A01F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5147-1217-496D-B214-479056DA5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1B5ED-E37F-47EF-AD2B-C95A7E0CE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FA79A-3CA4-4E9D-8234-66261F089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5F135-1BF9-44D5-9519-9CB106DBD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920A0-769F-4842-B02E-91228F36D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051EA-36AE-4FDB-8D64-A5E34BEF5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53611-1103-4CBB-B09A-0EBC05455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5AA9B-0D4D-46AD-A440-980C998D3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5EA5-A516-42AF-9540-C3F795DDD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54A7B-E324-465F-911A-E64C62AE1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FF03A-E3DA-4FE1-B425-F65E4A6C0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1CD18-19F7-4376-B1FA-728023820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6FFFF-53BB-4206-AC32-1723F46C7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12B08-697B-4835-BE23-10E43298F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B69C-F7A6-45BF-A741-D4DBF7520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CB75-9A43-4112-95AC-326D0513F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CD87-35EC-4852-9118-2986E6C6F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BCD5-E5E7-43D3-B402-BB3BE6836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88D0-8347-40C7-8540-564E362FE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A039-1ADF-41FC-A513-139D852B6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7592-7F05-4973-A1FF-38BB28411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FA5F0-2328-4185-B452-634912EB13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9E03B-82DB-44C8-89B2-39D171D2C4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4"/>
          <p:cNvSpPr/>
          <p:nvPr/>
        </p:nvSpPr>
        <p:spPr>
          <a:xfrm>
            <a:off x="228600" y="152280"/>
            <a:ext cx="4800600" cy="520560"/>
          </a:xfrm>
          <a:prstGeom prst="rect">
            <a:avLst/>
          </a:prstGeom>
          <a:solidFill>
            <a:srgbClr val="008ae8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llringer 5/14/20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304920" y="685800"/>
            <a:ext cx="5181480" cy="61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 the following questions in the first five minutes of class.  You may use your boo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lain the triangle trad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product / good was the main reason plantation owners needed slaves during the start of colonizat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the Middle Passag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o were the first groups of slaves in the America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12" descr="slaves on ship"/>
          <p:cNvPicPr/>
          <p:nvPr/>
        </p:nvPicPr>
        <p:blipFill>
          <a:blip r:embed="rId1"/>
          <a:stretch/>
        </p:blipFill>
        <p:spPr>
          <a:xfrm>
            <a:off x="4737240" y="146160"/>
            <a:ext cx="4278240" cy="24080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3" descr="indentured servant"/>
          <p:cNvPicPr/>
          <p:nvPr/>
        </p:nvPicPr>
        <p:blipFill>
          <a:blip r:embed="rId2"/>
          <a:stretch/>
        </p:blipFill>
        <p:spPr>
          <a:xfrm>
            <a:off x="6095880" y="2666880"/>
            <a:ext cx="2638440" cy="38102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3T11:49:06Z</dcterms:created>
  <dc:creator>admin</dc:creator>
  <dc:description/>
  <dc:language>en-US</dc:language>
  <cp:lastModifiedBy>admin</cp:lastModifiedBy>
  <dcterms:modified xsi:type="dcterms:W3CDTF">2012-05-14T12:07:21Z</dcterms:modified>
  <cp:revision>8</cp:revision>
  <dc:subject/>
  <dc:title>Slide 1</dc:title>
</cp:coreProperties>
</file>